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4E01-94F6-478F-8C60-62F3AC8ED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7843-D33B-46BB-A950-2D824D73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B30EB-149F-44BB-B9D2-3B9B1157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B4AC9-D802-4DC3-ADF7-D2285073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B2326-5154-4E42-AF53-6461AFDD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F8D8A-4FF4-4C1F-A81F-D8E04FBB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08075-4812-4518-A5BA-9C443219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E666D-910F-4389-B51D-714B75A8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FA382-A86A-446C-9F0F-E5A96282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03839-249E-46F1-8803-897EC926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0A57B-A520-44A3-ABC6-5D1878CB8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0D635-8D01-44CE-80C8-84F662ED6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0EE0-D75A-4C47-9E2E-4F377BED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654191-F504-4542-8D98-E9863D3E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EF6C76-4B43-44DD-96D4-1874B0CF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6B290-DB48-4B7F-9960-04410069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2C81D-891F-48A7-848C-BD4644C0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38F72-95EE-4095-B92D-0AD76835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60D34-A927-4DA2-8754-916360C5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12DF7-073F-47DC-B128-82916E7C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31F98F-0E0B-488D-972A-E5CAE2C5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F8BB2-7FE3-42B9-BEA2-68185E3A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CCD30-C798-49BB-AD8F-851F1600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DA27-C11B-4BC6-9F5F-358DB659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2E2AE-B4D6-403E-AAD4-1C7D78499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DD087-8555-4F00-8E44-D236A58E3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C30FE-D44B-444C-B168-0D27C761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77B54-D893-4751-B0A9-1FCB0690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0F0BC-72A0-4541-B601-5B1B0792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885A6-BB95-4F6B-B152-41249BFF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F5C23-D591-4CA6-8C0A-5E2745CF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A999F-1C71-4BCC-8F7E-067F629C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F709D-85EB-4E5C-9454-565ED06B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EF039-0D68-44D4-A109-4D7F917F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9B64-011B-4E4A-A7ED-4FFB553D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4E632-2F61-4FFB-B405-95F538C3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8082A-D907-4442-87D5-C606DB817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F34A9-78C6-4352-9573-7AD87DDA7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CD394E-EDB9-4933-8C63-5E7F6631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D6FE1F-4CD7-4CDF-A85B-BA2B35A0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4759E-F296-4A74-B8A7-86A0F30A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68785-F709-48A6-A2A8-D19BD61B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57B94-6B22-4E38-ADD0-327DDDBD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AB26A-1457-42B3-8859-DEED5049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FDC30C-5B31-4BCC-9ED3-8D7DEEE3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593A-1E79-4114-A98C-08D548CC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AA5F2-2793-441E-8805-3644858C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966580-25FF-47E1-B3C8-79384210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46DC3-5B35-4AE4-AD65-7DD53458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8D7338-434A-41A8-A014-C747F5D4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4F2D06-506E-4FB8-9B34-140B1118F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2D3A22-2AA0-470D-A336-65A22B4B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705D4D-59A2-464C-9EC8-741B92BB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672344-8195-48C8-8EFC-9D6C634E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CBEC84-2BFD-4B87-BF09-0CB598C2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9B7CC2-F3DE-4C87-B9C9-5BBD6497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AFFF-AF04-4937-B04C-28308189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1FF183-4703-448F-A3F9-9DF028E1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925414-0BD0-4EDC-B239-D5F683B9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49C2DE-7C97-483F-9F27-BFB0C15E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314EEC-885E-42D3-A0F9-899B5BBB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0AA6B0-B0B7-4564-8D1C-B5671DB9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A81CEC-FFBC-4EEB-BFEC-D9196C4C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4799E7-28CF-4DC0-9E39-2002E095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0311FE-4917-4216-8A17-8135B1EC7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E1D7CA-34F4-4A0A-9BE6-39E0E139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BA0C9E-0033-4DD4-B65A-F743878E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5AA8-862B-43AC-AD40-8C7CC243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61880D-3FEE-465D-AECC-F24C75F3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4C1729-698D-43DE-B624-AE0B9516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139D67-48DC-46E0-92C6-7E113393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15A26D-584E-4133-9F4D-DEE9450E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645309-B4C0-4B40-8212-B3C4B3E4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083EF4-8837-48BC-9F11-66E31D3C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022CAD-AD07-44DC-90B9-9DB5817A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14BF72-D25F-4A6D-9B69-344451DD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6C6CC1-0B50-49FF-B4BA-671689F7D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EB1810-D748-4286-A1B2-34F077B5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BA8D-3B50-41BD-9031-1398E713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E0465B-43E3-4BF8-89BA-DC79162E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FEA666-002F-4534-8E63-E9199794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04EA4E-CDBF-4D54-92D9-E6FD7356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49C5A3-56A5-42E6-8991-03383C88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22250B-C4C2-4EE6-AD79-54610211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FC03C4-B9AF-4C78-94F8-486DED9E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DD83B8-DF02-4447-9E16-9452C1E1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589DDD-2393-47CE-9D61-6F676F2A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40B020-CEA1-4BAC-A63C-872E93FF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8493C0-4B9F-4740-82A6-69120CD7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E374-D992-4A32-A1FF-22C10B0C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51989D-F2AF-475E-823B-6902AB9F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9A812D-47F8-48B9-8346-477637E48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B6A580-F7A9-4DAB-B2C3-8A39A853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FDF4F2-63B4-4D4B-A006-8FA39A8C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52B433-C1BB-489C-817F-8A3728DD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EF3F88-2B15-4D69-8FE9-BC70BA50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CBEAB9-748D-4B74-8B55-F1C02A6D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09CD2F-F49F-40E6-BA05-A272CB33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1FE53D-F5BC-482B-98C1-6FE62197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C5EB5A-0E91-46EE-AEAC-846F1EC5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6E44-EBB6-4573-8EDC-3DC84CDD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03FB2D-B257-4289-9BC4-4D164D79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F62A40-040B-481F-B8DD-E2994D933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BD8018-3C6E-4320-96D7-A03D47CDF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D6382C-4FD0-4CEC-9732-AFE986C8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506AED-C6E7-458E-A407-001A3677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5C8C43-C975-443D-BA9C-E8386A29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F250E8-5B45-460A-9CC9-0E18C594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344121-170C-4AD3-84B1-8359CB13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5DE3A9-D940-43C6-AA43-5034F397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D26A63-1AF5-4DC8-B925-2AAD10C6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09FB-2F75-45A1-9906-E8FF508B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23AA-3903-4964-8016-1927D8DD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0C1734-1AE5-41AD-AFB6-6D1F487B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65FD22-694A-4057-B41B-02ABE778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B8C1F2-47E3-4813-BC00-324988FD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196AE6-B27E-4D40-9F5C-10E6260DC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8682C6-2EE8-4B13-8888-091E612C4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808FEB-39F0-4EF8-9F37-BEBC7BF1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A1470A-A917-4878-8157-667D817E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D27179-1B07-4EDF-9A38-DE97C4FE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A56A1B-9D0E-4E91-B7A9-4EE9E4C3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F31FB6-8DA1-46F8-93C9-FD42A872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FFF6-6B80-4D44-82FF-293AF8E6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19E9B5-3404-466A-B273-B2BDA95A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A2C0D2-8CD6-439C-AAA8-AD40EDE6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99A3F0-4B01-4D11-90B1-EC912561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3540C2-6CA8-41DD-8AEB-9EF4C08A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55AACD-181F-4E44-BAFD-D06154A6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CDC8A0-1141-40A3-8287-BA526B5D9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F0F7AB-1B10-42AC-9516-A3FF329A3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72478A-F55D-43AB-9DDC-357FA6743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E4DB11-2827-49E1-BBFD-87698F05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6E2FD5-E5B8-4776-A464-7FC1CFF5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CE8F-4528-49F8-9523-906BD9D3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A79590-4ACD-4C13-83BC-ECDDA81D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345D8D-6EF8-4DEC-B734-10014ADA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22FFEF-9B6A-46E6-9526-964771B7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46447C-AEE7-44B2-8B2C-80BAD1D4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EFA372-F66A-4BB1-A81F-6801F16B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AB7A0E-C4AB-4C99-AAA3-3E0051F5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6BFDC2-84C9-4AB1-BBBF-0D2B983B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18C945-3772-43DD-8B8F-88DF84D8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DD506D-5903-410D-B8DF-487AD1A9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C2D83C-99AD-48DF-BB12-FD363180B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04BD-4460-461D-994A-5FBBDEA4C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2E6B0E-E018-4EFD-9580-EC77D7D2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064A3E-DF93-4D18-A8C6-33466610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1D9AEF-642B-4078-A323-E23563BE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848BA4-73CF-4F4B-A07E-2E7718D9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DF2C09-05E7-48D5-BD53-4942AF40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F3D7B9-C60C-4ED3-9167-98C410CF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38F79D-3FBC-40EA-B2CF-2D6FEBFE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3B06EA-76C8-4B4E-BD33-1AF98EED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27F515-9F0A-4B5A-95BF-954AA3FB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1350C5-5006-4F20-AD74-BC505EF24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94D4-0D83-4734-890B-1D1CED04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C095A1-D776-4646-9510-F8A1619F3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1C2963-C881-492B-BA3B-7EB50B77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CBB026-255A-4E3A-88DF-BBB0D785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025982-4E51-41FD-84B8-304AC34B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277AEA-19C4-4D23-8F6B-F7C6E5BC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105EF2-9A3A-4C0C-ADB1-A6EF590A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769B8A-9F5D-4239-9843-5BB76796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EB8679-10B5-48E7-8357-B8A4223D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FF80E0-84E9-4B8E-9174-A8B505A3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E1C8E1-A64C-4D98-9439-EDAF0C26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1648D-6B8F-4E52-B30D-86489EC9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AF5392-93E5-4103-B078-EBC8BF33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01D369-6788-402D-97C9-981515FB6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96218C-49DA-410A-9487-E07CDC6A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8941C-6885-4E2D-BC37-EC964CB2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74104-1F49-4B55-ACB0-31922C3B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B51F3-308E-4DAA-923A-B3791263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98613-9A63-492D-9C57-81F9DB84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D47C-C65A-4FE9-A105-1E5B7A7F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444E0-71E6-4B44-901E-8AEF1D1B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A2BFF-4AC2-4AA1-AE99-85AE7A9B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F74EF-6270-4682-9958-83703676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EA1AD-9BC3-472F-A250-896C19A4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C05B0-9446-41CA-88F9-B14F92DC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89FC6-2DEA-4752-ABFF-A609BA50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B5263-A046-4B85-BEC4-02241E38F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B75B1-FE0B-4304-A9C1-0F52699A3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C60D0-13A0-4B5F-87BA-56C1EC9D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037A7-B064-495C-AA42-FF721968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8CA4-BD8D-45E9-87E6-4CAEDBC9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21489-0C22-4815-B76D-F08AAA3C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BF87F-876B-44B2-B98A-39274C51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395E1-D1D0-40B5-AFFC-B022695D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54A16-546E-4026-ACD2-1F40506E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CCA5E-4121-4093-AC18-2F239157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F7278-6EFD-40BE-A08A-35761366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14D3E-D778-4FCA-A46E-E5BB3A85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F1524-1BAD-4344-AE5D-2C589D7E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2D300-9C91-4938-BC3B-B8E20737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D1FDC-0C10-4961-B505-60444A152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188C-FA15-4272-B696-D570ADF0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3B1FB-F020-4CCD-9FCC-BE7ECF7E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EE2FD-5473-40AF-9B87-30755E0E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BB37A-EF35-42A3-A93F-FEDF3418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7042C-748B-4CA5-83A1-5930DF12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42D48-CFCC-4AFA-9C0D-E3D1A54D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6C23B-890F-4B48-AD7C-AF8A744E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9E125-CE47-4555-9120-EEFFF444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9BF10-E575-4D84-80CF-55CCAFFB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17466-1E69-438C-B427-33BB3C48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2BFE0-F753-4CFA-84D2-7138A72B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175B-7C3F-46F3-88EC-9BFBDBB9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41CF0-1301-418C-BD62-9717A3382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90F84-3CE5-4F40-8379-676F57E56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18A58-D317-4737-ABBB-C945D7D1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89C83-D790-45DB-B58D-624E3D01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33530-525C-42CB-B8F2-8938D5F0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B939B-EFAB-4128-A634-0399CB67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EC644-1521-4F49-B80E-7A350180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1331B-EF44-4164-85C3-43FA2BCC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072FD-BD77-4F06-85A1-B56BDCA1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FBD95-4019-4FB5-9710-BA67A930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53B7-D0E5-4D50-BFBC-F0C6A60E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0EBB7-3C1F-4F07-8892-9F7B34EF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0092C-32E3-4432-AE50-865FE9BD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214FE-32EB-40A5-9D28-FE937463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27A6D-D5CE-40CA-BD76-540E1F8B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E8908-E4C1-4462-A564-34684B59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514D5-B276-4146-9C30-B51437F5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3F5B6-20F2-4B22-A187-10042928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8FDA9-B37A-47F6-A32F-7731462E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69624-9738-4031-90C7-819A03FE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6DF97-6A8E-493B-9F45-38F83D1D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28F6-9870-41E9-AC68-7822C406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4EE2F-1276-4CFE-804F-5E9E9244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4506A-8E30-47E4-95BD-43F0BBF1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19EF5-B019-42C9-9F26-0ACE9661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EC902-A8A1-4DAA-8DB6-68814BEA6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9D462-0AE0-4D89-8BB4-F2BAD624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907C6-B01D-48FA-B482-A6FE1A922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C6CBF-25CC-4375-817F-39BA5023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522D5-6DF8-4FC6-B1A1-DF993842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48AF8-BB3B-44C8-96D2-648D7AE8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AC0C2-4F29-468B-84CF-8C04E046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1542-6B63-4FFE-A750-060B7A97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0B4BB-4619-4FC9-AD26-6299FF3E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7B877-8A47-4A6E-856C-45928920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25F8A-50CC-401A-AA2C-361C8C00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4FB66-D3D0-425E-9976-7B70C529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FB681-4D38-4972-905F-5ED72441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DA589-3283-46AD-8AA5-C80D8737A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6E770-6D6D-40F4-BD9D-A8B8148A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372D35-1076-49E1-94E8-3157869C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51033-E3F0-44CE-B70B-8C4E2696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B6179-C0B7-4629-A36C-1FB84953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0A7B-2267-4733-B349-D571398368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B4A7-1F3B-4C5D-8BB1-1C3573FA95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C9AF-3C76-420D-A126-95325688B0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417C-4996-467F-8B45-F8112C5F50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A9EF-ABD5-43B0-9F1A-781348E45A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F299-1318-41A9-95A9-98E0B2738E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F3F4-AD04-4788-9905-3B8A6C77A2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FBE6-EA8F-4249-A579-6801D2A84C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17AD-9963-4ACC-9A29-D91210F5D4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768C-459B-4A12-803C-08F2A6A524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D6D2-FEB0-4BB9-AAA9-044BDF4572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7AA7-8A45-4F67-837F-7601A5127F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B133-7604-431A-9C65-05132BF2D6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1243-0179-42DA-A090-BBF550AC6A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1481-29CE-4B69-85D6-B0B3146BC7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B1F5-C342-4D65-87B1-8BF94A7F3C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5DFB-C4F6-48B1-9C9F-D021651E17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657D-2D05-405C-910B-47B0EBC6EE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18C2-CB34-4CA5-895D-DF5E02EBED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AE6E-796C-4FE7-A53C-0101D6A175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8250-60A2-4D21-B594-C2CCBC932D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6C35-9C7C-4EB4-ACFF-7F1EB53303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EB87-495F-41EF-9A1E-ABF43CE5A8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D2E5-9CDF-429B-83BB-C3906D816A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5729-4CFA-47DA-8B47-C08638F387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FAE0-5878-4651-B6BB-51F51AA79A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DEE2-773B-4987-99A7-8DC65F496F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7230-9D9C-4024-B5E1-B5B9C27582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7A6E-0961-41CD-B5C3-EB0CC39AC7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3575-271E-47B3-AAA8-86AC48486D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CA37-A7AC-49D8-903A-80602EB8C4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CB35-299E-47DC-AB5D-F7BE57DE3B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1987-8C93-4C55-8422-3F362B2B87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72AB-E906-471D-9D89-CB765772BB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8920-35B6-44F8-9812-25F6516D63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830C-9455-46F0-AC33-E00961B540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3D7C-A896-478D-8311-C33C0200B4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9BBE-E865-446C-B6CD-10080C98DB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8FA6-78C6-47FF-910E-CD6708510A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4806-3A58-4C2D-8550-CD37BC14F3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581200" y="3176640"/>
            <a:ext cx="398160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19160" y="1600200"/>
            <a:ext cx="8905680" cy="36576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468360" y="3213000"/>
            <a:ext cx="3311640" cy="2574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1244520" y="4170240"/>
            <a:ext cx="216000" cy="1922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1763640" y="4168800"/>
            <a:ext cx="216000" cy="1922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2239920" y="4178160"/>
            <a:ext cx="216000" cy="1922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3583080" y="4168800"/>
            <a:ext cx="215640" cy="1922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4923000" y="3889440"/>
            <a:ext cx="215640" cy="1918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5867280" y="4202280"/>
            <a:ext cx="216000" cy="1918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6338880" y="4192560"/>
            <a:ext cx="216000" cy="1922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6867360" y="4197240"/>
            <a:ext cx="216000" cy="1922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8234280" y="4178160"/>
            <a:ext cx="216000" cy="1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9410" descr=""/>
          <p:cNvPicPr/>
          <p:nvPr/>
        </p:nvPicPr>
        <p:blipFill>
          <a:blip r:embed="rId1"/>
          <a:stretch/>
        </p:blipFill>
        <p:spPr>
          <a:xfrm>
            <a:off x="176040" y="1023840"/>
            <a:ext cx="8791920" cy="48103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1638360" y="32702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3492360" y="32846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6227640" y="32846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5"/>
          <a:stretch/>
        </p:blipFill>
        <p:spPr>
          <a:xfrm>
            <a:off x="8101080" y="32846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8" name="图片 59415" descr=""/>
          <p:cNvPicPr/>
          <p:nvPr/>
        </p:nvPicPr>
        <p:blipFill>
          <a:blip r:embed="rId6"/>
          <a:stretch/>
        </p:blipFill>
        <p:spPr>
          <a:xfrm>
            <a:off x="639720" y="4622760"/>
            <a:ext cx="1400040" cy="1209600"/>
          </a:xfrm>
          <a:prstGeom prst="rect">
            <a:avLst/>
          </a:prstGeom>
          <a:ln w="0">
            <a:noFill/>
          </a:ln>
        </p:spPr>
      </p:pic>
      <p:pic>
        <p:nvPicPr>
          <p:cNvPr id="939" name="图片 59416" descr=""/>
          <p:cNvPicPr/>
          <p:nvPr/>
        </p:nvPicPr>
        <p:blipFill>
          <a:blip r:embed="rId7"/>
          <a:stretch/>
        </p:blipFill>
        <p:spPr>
          <a:xfrm>
            <a:off x="2314440" y="4618080"/>
            <a:ext cx="1400400" cy="1219320"/>
          </a:xfrm>
          <a:prstGeom prst="rect">
            <a:avLst/>
          </a:prstGeom>
          <a:ln w="0">
            <a:noFill/>
          </a:ln>
        </p:spPr>
      </p:pic>
      <p:pic>
        <p:nvPicPr>
          <p:cNvPr id="940" name="图片 59417" descr=""/>
          <p:cNvPicPr/>
          <p:nvPr/>
        </p:nvPicPr>
        <p:blipFill>
          <a:blip r:embed="rId8"/>
          <a:stretch/>
        </p:blipFill>
        <p:spPr>
          <a:xfrm>
            <a:off x="4046400" y="4614840"/>
            <a:ext cx="1362240" cy="1190520"/>
          </a:xfrm>
          <a:prstGeom prst="rect">
            <a:avLst/>
          </a:prstGeom>
          <a:ln w="0">
            <a:noFill/>
          </a:ln>
        </p:spPr>
      </p:pic>
      <p:pic>
        <p:nvPicPr>
          <p:cNvPr id="941" name="图片 59418" descr=""/>
          <p:cNvPicPr/>
          <p:nvPr/>
        </p:nvPicPr>
        <p:blipFill>
          <a:blip r:embed="rId9"/>
          <a:stretch/>
        </p:blipFill>
        <p:spPr>
          <a:xfrm>
            <a:off x="5707080" y="4629240"/>
            <a:ext cx="1428840" cy="12380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10"/>
          <a:stretch/>
        </p:blipFill>
        <p:spPr>
          <a:xfrm>
            <a:off x="7308720" y="5122800"/>
            <a:ext cx="172728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8373" descr=""/>
          <p:cNvPicPr/>
          <p:nvPr/>
        </p:nvPicPr>
        <p:blipFill>
          <a:blip r:embed="rId1"/>
          <a:stretch/>
        </p:blipFill>
        <p:spPr>
          <a:xfrm>
            <a:off x="142920" y="1662120"/>
            <a:ext cx="8858160" cy="3533760"/>
          </a:xfrm>
          <a:prstGeom prst="rect">
            <a:avLst/>
          </a:prstGeom>
          <a:ln w="0">
            <a:noFill/>
          </a:ln>
        </p:spPr>
      </p:pic>
      <p:pic>
        <p:nvPicPr>
          <p:cNvPr id="944" name="图片 58374" descr=""/>
          <p:cNvPicPr/>
          <p:nvPr/>
        </p:nvPicPr>
        <p:blipFill>
          <a:blip r:embed="rId2"/>
          <a:stretch/>
        </p:blipFill>
        <p:spPr>
          <a:xfrm>
            <a:off x="5546880" y="1722600"/>
            <a:ext cx="341928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2:15:32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